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7.jpeg" ContentType="image/jpeg"/>
  <Override PartName="/ppt/media/image28.png" ContentType="image/png"/>
  <Override PartName="/ppt/media/image31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BE67-8125-4559-90DA-E0F066DBA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323F-AF2D-492C-BC27-BB5744F9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1BDB-ADF1-49B7-BEDA-2027D8897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060F-6B1B-428A-8753-DE3DAF8F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A520-8853-4D1B-98EC-D4D97546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1A93-1457-4403-96A6-981E13B6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41F5-DBBA-4084-BD5C-EA614370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F671-2DA3-4E35-BAC6-89D279F4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AA03-82C8-412B-B8F5-5AD7377A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170A-043E-4BC6-8E3C-1C79A091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167E-CE5A-42C0-8D9F-BAE21454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9B7F-FE8F-4389-B7DA-268FCF9B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A614-CAE1-4DC7-AB22-07D689A1A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5508360" cy="4124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16000" y="5157720"/>
            <a:ext cx="345600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y Giorgio Benedek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ipartimento Scienza dei Material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iversità di Milano-Bicoc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300720" y="1484280"/>
            <a:ext cx="2664000" cy="31737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9999"/>
                </a:solidFill>
                <a:latin typeface="Arial"/>
              </a:rPr>
              <a:t>He: a superat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9999"/>
                </a:solidFill>
                <a:latin typeface="Arial"/>
              </a:rPr>
              <a:t>Superfluid hel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upersonic hel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 surface superpro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Helium clu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lying refrige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rom fountains to gey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upersolid hel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333360"/>
            <a:ext cx="446400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He: an ideal g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84360" y="1700280"/>
                <a:ext cx="23749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84360" y="4005360"/>
                <a:ext cx="33843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643280" y="4021200"/>
                <a:ext cx="324036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b</m:t>
                        </m:r>
                      </m:den>
                    </m:f>
                    <m:r>
                      <m:t xml:space="preserve">≃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t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324000" y="1197000"/>
            <a:ext cx="43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Webdings"/>
                <a:ea typeface="Webdings"/>
              </a:rPr>
              <a:t>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n der Waals equation of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84360" y="2492280"/>
                <a:ext cx="44132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324000" y="3284640"/>
            <a:ext cx="43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Webdings"/>
                <a:ea typeface="Webdings"/>
              </a:rPr>
              <a:t>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ule-Thomson 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5157720"/>
            <a:ext cx="66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Webdings"/>
                <a:ea typeface="Webdings"/>
              </a:rPr>
              <a:t>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mal conductivity: 151.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 / mK  (300 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5734080"/>
            <a:ext cx="6048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Webdings"/>
                <a:ea typeface="Webdings"/>
              </a:rPr>
              <a:t>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ffusivity in solid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3 times that of air; ~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hat of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6308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Webdings"/>
                <a:ea typeface="Webdings"/>
              </a:rPr>
              <a:t>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bility in water: smaller than for any other g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508720" y="754200"/>
            <a:ext cx="345600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50920" y="1052640"/>
            <a:ext cx="889308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cc00"/>
                </a:solidFill>
                <a:latin typeface="Wingdings 2"/>
                <a:ea typeface="Wingdings 2"/>
              </a:rPr>
              <a:t></a:t>
            </a:r>
            <a:r>
              <a:rPr b="0" lang="en-GB" sz="18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ium in an electric glow discharge can form unstable compounds and molecu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ons like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HeNe, HgHe</a:t>
            </a:r>
            <a:r>
              <a:rPr b="1" lang="en-GB" sz="2000" spc="-1" strike="noStrike" baseline="-25000">
                <a:solidFill>
                  <a:srgbClr val="333399"/>
                </a:solidFill>
                <a:latin typeface="Arial"/>
              </a:rPr>
              <a:t>10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, WHe</a:t>
            </a:r>
            <a:r>
              <a:rPr b="1" lang="en-GB" sz="2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He</a:t>
            </a:r>
            <a:r>
              <a:rPr b="1" lang="en-GB" sz="2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18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, He</a:t>
            </a:r>
            <a:r>
              <a:rPr b="1" lang="en-GB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1800" spc="-1" strike="noStrike" baseline="30000">
                <a:solidFill>
                  <a:srgbClr val="333399"/>
                </a:solidFill>
                <a:latin typeface="Arial"/>
              </a:rPr>
              <a:t>++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, HeH</a:t>
            </a:r>
            <a:r>
              <a:rPr b="0" lang="en-GB" sz="18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, HeD</a:t>
            </a:r>
            <a:r>
              <a:rPr b="0" lang="en-GB" sz="18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d even H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form otherwise a plasma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4d4d4d"/>
                </a:solidFill>
                <a:latin typeface="Arial"/>
              </a:rPr>
              <a:t>supersonic cluster beam de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5229360"/>
            <a:ext cx="6121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d4d4d"/>
                </a:solidFill>
                <a:latin typeface="Wingdings 2"/>
                <a:ea typeface="Wingdings 2"/>
              </a:rPr>
              <a:t></a:t>
            </a:r>
            <a:r>
              <a:rPr b="0" lang="it-IT" sz="18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he largest wdW cluster! </a:t>
            </a:r>
            <a:r>
              <a:rPr b="1" lang="it-IT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s a giant, &gt; 5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Å wid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333360"/>
            <a:ext cx="38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84360" y="260280"/>
            <a:ext cx="40323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e: a noblem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2421000"/>
            <a:ext cx="842472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Wingdings 2"/>
                <a:ea typeface="Wingdings 2"/>
              </a:rPr>
              <a:t>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dohedral fullerenes (by heating under a high pressure of the gas):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en-GB" sz="2000" spc="-1" strike="noStrike" baseline="-25000">
                <a:solidFill>
                  <a:srgbClr val="333399"/>
                </a:solidFill>
                <a:latin typeface="Arial"/>
              </a:rPr>
              <a:t>60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@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eutral molecules formed are stable up to high temperatu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3500280"/>
            <a:ext cx="8642160" cy="14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Wingdings 2"/>
                <a:ea typeface="Wingdings 2"/>
              </a:rPr>
              <a:t>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 is used, it can be readily observed by helium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NMR spectroscop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llerenes compounds, nanotubes, supramolecular compounds can be studi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is way. 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 sneaks into everywhere and tells about the electron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vironment (a nobleman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0472600">
            <a:off x="6011640" y="5157720"/>
            <a:ext cx="2663640" cy="115092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27640" y="6237360"/>
            <a:ext cx="287640" cy="287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101080" y="4941720"/>
            <a:ext cx="216000" cy="2145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6515280"/>
            <a:ext cx="25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9999"/>
                </a:solidFill>
                <a:latin typeface="Arial"/>
              </a:rPr>
              <a:t>End of lectur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87280" y="260280"/>
            <a:ext cx="6769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Heliu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he only substance which doesn’t freeze at absolute zero and normal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1768320"/>
            <a:ext cx="8569440" cy="45579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796000" y="1916280"/>
            <a:ext cx="2881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ordinary sub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021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P. Kapitza (19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187280" y="4941360"/>
            <a:ext cx="1440000" cy="107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95640" y="60213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Lee, Osheroff, Richard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788000" y="5229360"/>
            <a:ext cx="288720" cy="79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572000" y="2276640"/>
            <a:ext cx="424800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124000" y="189000"/>
            <a:ext cx="4614840" cy="6449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300720" y="638172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33399"/>
                </a:solidFill>
                <a:latin typeface="Arial"/>
              </a:rPr>
              <a:t>from D. Vollhardt &amp; P 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  <a:ea typeface="Arial"/>
              </a:rPr>
              <a:t>ölfle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19280" y="6165720"/>
            <a:ext cx="9367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6021360"/>
            <a:ext cx="12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3300"/>
                </a:solidFill>
                <a:latin typeface="Arial"/>
              </a:rPr>
              <a:t>log scal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5761080" cy="4941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24000" y="260280"/>
            <a:ext cx="251928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λ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– line specific h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48360" y="5950080"/>
            <a:ext cx="30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W. H. Keesom et al (19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045120" y="115920"/>
            <a:ext cx="2962440" cy="4392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5040000" cy="3537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116000" y="4724280"/>
                <a:ext cx="22320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116000" y="5445000"/>
                <a:ext cx="208764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U</m:t>
                    </m:r>
                    <m:r>
                      <m:t xml:space="preserve">=</m:t>
                    </m:r>
                    <m:r>
                      <m:t xml:space="preserve">TΔS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Δ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425920" y="4941720"/>
                <a:ext cx="24688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U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d>
                    <m:r>
                      <m:t xml:space="preserve"> </m:t>
                    </m:r>
                    <m:r>
                      <m:t xml:space="preserve">TΔ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003640" y="6093000"/>
                <a:ext cx="331344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3564000" y="5013360"/>
            <a:ext cx="1439640" cy="287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564000" y="5300280"/>
            <a:ext cx="1439640" cy="2890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546960" cy="5291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484360" y="260280"/>
            <a:ext cx="410544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He solid vs. liquid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219640" y="333360"/>
            <a:ext cx="3475080" cy="3745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300720" y="1413000"/>
            <a:ext cx="935280" cy="93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68360" y="3860640"/>
                <a:ext cx="367200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r</m:t>
                        </m:r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  <m:e>
                        <m:r>
                          <m:t xml:space="preserve">Δp</m:t>
                        </m:r>
                        <m:r>
                          <m:t xml:space="preserve">≈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&gt;</m:t>
                            </m:r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n</m:t>
                                    </m:r>
                                  </m:sub>
                                </m:sSub>
                              </m:e>
                            </m:rad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324000" y="549360"/>
            <a:ext cx="4103640" cy="1747440"/>
          </a:xfrm>
          <a:prstGeom prst="rect">
            <a:avLst/>
          </a:prstGeom>
          <a:solidFill>
            <a:srgbClr val="f8f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He: a quantum so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fighting against Heisenberg’s indetermination 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92720" y="333360"/>
            <a:ext cx="3382920" cy="367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948360" y="4005000"/>
            <a:ext cx="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859280" y="2205000"/>
            <a:ext cx="4334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8675280" y="2205000"/>
            <a:ext cx="468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948360" y="0"/>
            <a:ext cx="0" cy="333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27640" y="5300640"/>
            <a:ext cx="4535280" cy="1409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solid Helium unfavorable condition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attractive forces 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Arial"/>
              </a:rPr>
              <a:t>pot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) are w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both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are sm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51640" y="3716280"/>
            <a:ext cx="72072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651280" y="3716280"/>
            <a:ext cx="64908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364500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68360" y="2781360"/>
                <a:ext cx="17287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rΔp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39640" y="5445000"/>
                <a:ext cx="280836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t</m:t>
                            </m:r>
                          </m:sub>
                        </m:sSub>
                      </m:e>
                    </m:d>
                    <m:r>
                      <m:t xml:space="preserve">&gt;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n</m:t>
                        </m:r>
                      </m:sub>
                    </m:sSub>
                    <m:r>
                      <m:t xml:space="preserve">≥</m:t>
                    </m:r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8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5508720" y="4508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pressure need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968720" cy="614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124000" y="476280"/>
            <a:ext cx="417600" cy="431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635280" y="476280"/>
            <a:ext cx="417600" cy="431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324000" y="3429000"/>
            <a:ext cx="5111640" cy="522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3635280" y="2421000"/>
            <a:ext cx="417600" cy="431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2124000" y="2421000"/>
            <a:ext cx="417600" cy="431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2050920" y="5661000"/>
            <a:ext cx="1871640" cy="5079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8"/>
          <a:stretch/>
        </p:blipFill>
        <p:spPr>
          <a:xfrm>
            <a:off x="2987640" y="4508640"/>
            <a:ext cx="417600" cy="4316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9"/>
          <a:stretch/>
        </p:blipFill>
        <p:spPr>
          <a:xfrm>
            <a:off x="2128680" y="4508640"/>
            <a:ext cx="406440" cy="4204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556000" y="692280"/>
            <a:ext cx="10792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56000" y="2637000"/>
            <a:ext cx="10792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627280" y="47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56000" y="4724280"/>
            <a:ext cx="43164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08720" y="189000"/>
            <a:ext cx="3313080" cy="825480"/>
          </a:xfrm>
          <a:prstGeom prst="rect">
            <a:avLst/>
          </a:prstGeom>
          <a:solidFill>
            <a:srgbClr val="f8f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ssical (Maxwell-Boltzmann)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0920" y="981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1052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84720" y="2997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08360" y="57340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2924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403280" y="57340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08720" y="2205000"/>
            <a:ext cx="3311280" cy="825480"/>
          </a:xfrm>
          <a:prstGeom prst="rect">
            <a:avLst/>
          </a:prstGeom>
          <a:solidFill>
            <a:srgbClr val="f8f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antum Bose-Einstein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08720" y="4292640"/>
            <a:ext cx="3311280" cy="825480"/>
          </a:xfrm>
          <a:prstGeom prst="rect">
            <a:avLst/>
          </a:prstGeom>
          <a:solidFill>
            <a:srgbClr val="f8f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antum Fermi-Dirac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6443640" y="1197000"/>
                <a:ext cx="12240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443640" y="3284640"/>
                <a:ext cx="136692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6516720" y="5445000"/>
                <a:ext cx="10080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4859280" y="3357720"/>
            <a:ext cx="79236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859280" y="5516640"/>
            <a:ext cx="79236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49480" y="6237360"/>
            <a:ext cx="69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Fermions (</a:t>
            </a:r>
            <a:r>
              <a:rPr b="0" lang="it-IT" sz="20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He) also fight against Pauli’s esclusion principl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4682 E">
                                      <p:cBhvr>
                                        <p:cTn id="5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4682 E">
                                      <p:cBhvr>
                                        <p:cTn id="50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5722 E">
                                      <p:cBhvr>
                                        <p:cTn id="554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5722 E">
                                      <p:cBhvr>
                                        <p:cTn id="556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-2.48555E-006 L 0.00087 0.1785 E">
                                      <p:cBhvr>
                                        <p:cTn id="608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13873E-006 C 0.00695 0.01433 0.00695 0.11213 1.66667E-006 0.12901 C -0.00694 0.14589 -0.03437 0.11583 -0.04132 0.1015 C -0.04826 0.08716 -0.04843 0.05896 -0.04132 0.04231 C -0.0342 0.02566 -0.00694 -0.01434 1.66667E-006 2.13873E-006 Z">
                                      <p:cBhvr>
                                        <p:cTn id="610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2279520" cy="31687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826920" y="260280"/>
            <a:ext cx="7560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Keesom and van den Ende (1930) observed quite accidentally that liquid helium II passed with very annoying ease through certain extremely small leaks which at a higher temperature were perfectly tight for liquid helium I and even for gaseous helium.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26920" y="5445000"/>
            <a:ext cx="7561440" cy="11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This observation seemes to indicate an enormous drop of viscosity when liquid helium passes the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-point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Fritz London, Superfluids, Vol. II (John Wiley &amp; Sons, New York 195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84720" y="2924280"/>
            <a:ext cx="244800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supersurfac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H. Kamerlingh Onnes (192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596360" y="476280"/>
            <a:ext cx="1390320" cy="1952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451640" y="2565360"/>
            <a:ext cx="1692360" cy="1981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26920" y="404640"/>
            <a:ext cx="597708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elium: a brief biography of a super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12536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26828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18 Aug 1868 solar eclipse :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Pierre Jansse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587.49 nm: N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2060640"/>
            <a:ext cx="7200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0 Oct 1868: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Norman Lockye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ame line (D3) in solar spectrum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posal with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Edward Franklan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of a new atom: Heliu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3213000"/>
            <a:ext cx="71276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6 Mar 1895: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William Ramsay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looks for Ar in rocks but fi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mething else; Lockyer and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William Crooke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onfirm: Heliu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William F. Hillebran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US) found it earlier but…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4653000"/>
            <a:ext cx="6912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ter in 1895: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Teodor Clev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Abraham Langle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Uppsal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termine the atomic weight of He with great accu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805360"/>
            <a:ext cx="84960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1907: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Ernest Rutherfor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Thomas Royds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ve that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ray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re </a:t>
            </a:r>
            <a:r>
              <a:rPr b="1" lang="it-IT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He nuc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740720" y="4724280"/>
            <a:ext cx="1200240" cy="1557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67640" y="6308640"/>
            <a:ext cx="1368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Sir Ernest Rutherfo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667640" y="476280"/>
            <a:ext cx="1254240" cy="1873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292720" y="476280"/>
            <a:ext cx="3552840" cy="5832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68360" y="333360"/>
            <a:ext cx="43927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 Helium fou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5640" y="2060640"/>
            <a:ext cx="3887640" cy="29286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At any rate the fountain effect experiments show that, in liquid helium, heat transfer and matter transfer are inseparably interconnected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F. London, ibi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7308720" y="1197000"/>
            <a:ext cx="781200" cy="5428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 flipH="1">
            <a:off x="8100720" y="3645000"/>
            <a:ext cx="57636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400536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551664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-4633920" y="4076640"/>
            <a:ext cx="9267840" cy="13813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716360" y="4076640"/>
            <a:ext cx="9267840" cy="13813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0" y="278136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-6877080" y="1268280"/>
            <a:ext cx="9286920" cy="1390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2411280" y="1268280"/>
            <a:ext cx="9286920" cy="13906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-8748720" y="1773360"/>
            <a:ext cx="9296280" cy="399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611280" y="1773360"/>
            <a:ext cx="9296280" cy="3999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403280" y="333360"/>
            <a:ext cx="66960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wo-fluid model of the superfluid state (L. Tis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403280" y="2997360"/>
            <a:ext cx="54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a normal (viscous) component with atoms having different excited-state velo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03280" y="580536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a superfluid component with all atoms having the same ground state velocity (BEC  </a:t>
            </a:r>
            <a:r>
              <a:rPr b="0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  no dissipation  </a:t>
            </a:r>
            <a:r>
              <a:rPr b="0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  zero viscosit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941 0 E">
                                      <p:cBhvr>
                                        <p:cTn id="664" dur="5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941 0 E">
                                      <p:cBhvr>
                                        <p:cTn id="666" dur="5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875 0 E">
                                      <p:cBhvr>
                                        <p:cTn id="668" dur="5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875 0 E">
                                      <p:cBhvr>
                                        <p:cTn id="670" dur="5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842 0 E">
                                      <p:cBhvr>
                                        <p:cTn id="690" dur="5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842 0 E">
                                      <p:cBhvr>
                                        <p:cTn id="692" dur="5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684360" y="1197000"/>
                <a:ext cx="23749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ε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dε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067280" y="1268280"/>
                <a:ext cx="25207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πV</m:t>
                        </m:r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sSup>
                      <m:e>
                        <m:r>
                          <m:t xml:space="preserve">m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ε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684360" y="2349360"/>
                <a:ext cx="45478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g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ε</m:t>
                        </m:r>
                      </m:e>
                    </m:acc>
                    <m:r>
                      <m:t xml:space="preserve">)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ε</m:t>
                        </m:r>
                      </m:e>
                    </m:acc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84360" y="3141720"/>
                <a:ext cx="5910120" cy="30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</m:den>
                            </m:f>
                          </m:sup>
                        </m:sSup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dε</m:t>
                            </m:r>
                            <m:r>
                              <m:t xml:space="preserve"> 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ε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</m:den>
                            </m:f>
                          </m:sup>
                        </m:sSup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ℓ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ℓ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ε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e>
                        </m:nary>
                      </m:e>
                      <m:e/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kT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ℓ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 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ℓ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ℓ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3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p>
                                </m:sSup>
                              </m:den>
                            </m:f>
                          </m:e>
                        </m:nary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≡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</m:den>
                            </m:f>
                          </m:sup>
                        </m:sSup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/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kT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1042920" y="333360"/>
            <a:ext cx="748980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imple ideas about Bose–Einstein condensation (B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148360" y="5229360"/>
                <a:ext cx="310968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ℓ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ℓ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ℓ</m:t>
                                    </m:r>
                                  </m:e>
                                  <m:sup>
                                    <m:r>
                                      <m:t xml:space="preserve">α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Bose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ζ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iemann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6443640" y="2421000"/>
            <a:ext cx="1441440" cy="143964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659640" y="3213000"/>
            <a:ext cx="7128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093080" y="3141720"/>
            <a:ext cx="7128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164360" y="3429000"/>
            <a:ext cx="7164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659640" y="3645000"/>
            <a:ext cx="7128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596360" y="2997360"/>
            <a:ext cx="71280" cy="72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451640" y="3141720"/>
            <a:ext cx="7164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04000" y="2924280"/>
            <a:ext cx="7164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88000" y="2492280"/>
            <a:ext cx="7164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380360" y="2852640"/>
            <a:ext cx="7128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93080" y="2637000"/>
            <a:ext cx="71280" cy="72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596360" y="2637000"/>
            <a:ext cx="71280" cy="72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75640" y="3429000"/>
            <a:ext cx="7128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091280" y="3645000"/>
            <a:ext cx="7164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164360" y="2924280"/>
            <a:ext cx="7164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24720" y="3573360"/>
            <a:ext cx="7164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51640" y="3357720"/>
            <a:ext cx="71640" cy="72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740720" y="3645000"/>
            <a:ext cx="7128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588000" y="2997360"/>
            <a:ext cx="71640" cy="72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732720" y="2708280"/>
            <a:ext cx="7128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308720" y="3645000"/>
            <a:ext cx="7164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667640" y="3429000"/>
            <a:ext cx="7128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80360" y="2565360"/>
            <a:ext cx="7308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48360" y="3789360"/>
            <a:ext cx="8636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596360" y="3645000"/>
            <a:ext cx="28872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12000" y="422100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48360" y="2492280"/>
            <a:ext cx="7164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020000" y="141300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3300"/>
                </a:solidFill>
                <a:latin typeface="Arial"/>
              </a:rPr>
              <a:t>density of st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11280" y="1197000"/>
            <a:ext cx="273672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24360" y="1197000"/>
            <a:ext cx="4824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8360" y="2276640"/>
            <a:ext cx="496728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4000" y="3141720"/>
            <a:ext cx="45352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00000" y="4149720"/>
            <a:ext cx="590400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71640" y="5300640"/>
            <a:ext cx="684036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843280" y="2924280"/>
                <a:ext cx="3887640" cy="18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≡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kT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ℓ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ℓ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t xml:space="preserve">ℓ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f>
                                          <m:fPr>
                                            <m:type m:val="lin"/>
                                          </m:fPr>
                                          <m:num>
                                            <m:r>
                                              <m:t xml:space="preserve">3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</m:sup>
                                    </m:sSup>
                                  </m:den>
                                </m:f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kT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68360" y="549360"/>
                <a:ext cx="532764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ε</m:t>
                            </m:r>
                            <m:r>
                              <m:t xml:space="preserve"> 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ε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dε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 </m:t>
                    </m:r>
                    <m:r>
                      <m:t xml:space="preserve">V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kT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sSub>
                      <m:e>
                        <m:r>
                          <m:t xml:space="preserve">g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468360" y="1700280"/>
                <a:ext cx="518472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≡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kT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]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1003320" y="5157720"/>
                <a:ext cx="476244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π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kT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6659640" y="765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total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084720" y="1773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average energy per a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8360" y="3141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atom d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227640" y="5229360"/>
            <a:ext cx="2519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condensation o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groun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4000" y="1628640"/>
            <a:ext cx="85690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0920" y="2852640"/>
            <a:ext cx="7416720" cy="16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32360" y="5157720"/>
            <a:ext cx="3600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042920" y="5013360"/>
            <a:ext cx="381636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611280" y="4724280"/>
                <a:ext cx="5771880" cy="16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EC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ζ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kT</m:t>
                                </m:r>
                              </m:e>
                            </m:rad>
                          </m:den>
                        </m:f>
                      </m:e>
                      <m:e/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sub>
                        </m:sSub>
                        <m:r>
                          <m:t xml:space="preserve">≃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3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bSup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611280" y="1236600"/>
                <a:ext cx="525600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→</m:t>
                    </m:r>
                    <m:r>
                      <m:t xml:space="preserve">0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≃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m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5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≃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8</m:t>
                    </m:r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m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611280" y="2349360"/>
                <a:ext cx="4924440" cy="7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lassic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k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≃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πm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π</m:t>
                    </m:r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m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611280" y="3429000"/>
                <a:ext cx="48942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EC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m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ζ</m:t>
                                </m:r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≃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1</m:t>
                    </m:r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m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1258920" y="404640"/>
            <a:ext cx="604980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BEC critical temperature &amp;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012000" y="1844640"/>
            <a:ext cx="2997000" cy="28227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468360" y="2276640"/>
            <a:ext cx="525600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5280" y="3429000"/>
            <a:ext cx="525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95280" y="4581360"/>
            <a:ext cx="604836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476360" y="5950080"/>
            <a:ext cx="2016000" cy="57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148360" y="573408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780000" y="6021360"/>
            <a:ext cx="53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de Broglie wavelength  </a:t>
            </a:r>
            <a:r>
              <a:rPr b="0" lang="it-IT" sz="1800" spc="-1" strike="noStrike">
                <a:solidFill>
                  <a:srgbClr val="ff3300"/>
                </a:solidFill>
                <a:latin typeface="Symbol"/>
                <a:ea typeface="Symbol"/>
              </a:rPr>
              <a:t>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 2 x interatomic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547640" y="476280"/>
            <a:ext cx="626436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Micromég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</a:t>
            </a: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s, bien meilleur observateur que son nain, vit clairement que les atomes se parlaient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Times New Roman"/>
              </a:rPr>
              <a:t>(Voltaire, </a:t>
            </a:r>
            <a:r>
              <a:rPr b="0" i="1" lang="it-IT" sz="1800" spc="-1" strike="noStrike">
                <a:solidFill>
                  <a:srgbClr val="000099"/>
                </a:solidFill>
                <a:latin typeface="Times New Roman"/>
              </a:rPr>
              <a:t>Micromégas</a:t>
            </a:r>
            <a:r>
              <a:rPr b="0" lang="it-IT" sz="1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547640" y="2997360"/>
            <a:ext cx="6048720" cy="11491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476360" y="4724280"/>
            <a:ext cx="64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toms “talk” each other if their average mean distance is smaller than their de Broglie wave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476360" y="573408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ut the boson attitudes are totally different from fermion attitud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03640" y="2421000"/>
            <a:ext cx="151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de Brog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03640" y="3068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203280" y="3068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2041560" cy="619308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3924360" y="333360"/>
            <a:ext cx="424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even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singl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odd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triplet)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4500720" y="549000"/>
            <a:ext cx="504720" cy="2156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500720" y="836640"/>
            <a:ext cx="504720" cy="2160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00360" y="1484280"/>
            <a:ext cx="6192720" cy="520560"/>
          </a:xfrm>
          <a:prstGeom prst="rect">
            <a:avLst/>
          </a:prstGeom>
          <a:solidFill>
            <a:srgbClr val="fa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0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0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-wave Cooper pair:  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unfavoured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3300"/>
                </a:solidFill>
                <a:latin typeface="Wingdings"/>
                <a:ea typeface="Wingdings"/>
              </a:rPr>
              <a:t>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00360" y="2276640"/>
            <a:ext cx="6192720" cy="3749040"/>
          </a:xfrm>
          <a:prstGeom prst="rect">
            <a:avLst/>
          </a:prstGeom>
          <a:solidFill>
            <a:srgbClr val="fa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1  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1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-wave Cooper pair: 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favoured </a:t>
            </a:r>
            <a:r>
              <a:rPr b="1" lang="en-GB" sz="2800" spc="-1" strike="noStrike">
                <a:solidFill>
                  <a:srgbClr val="009999"/>
                </a:solidFill>
                <a:latin typeface="Wingdings"/>
                <a:ea typeface="Wingdings"/>
              </a:rPr>
              <a:t>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0  (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,  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1  (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,  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2  (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spin-orbit interaction is be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mK range and can be neglect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-fold ~ degeneracy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mixing of </a:t>
            </a:r>
            <a:r>
              <a:rPr b="0" i="1" lang="en-GB" sz="18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i="1" lang="en-GB" sz="2000" spc="-1" strike="noStrike" baseline="-25000">
                <a:solidFill>
                  <a:srgbClr val="ff3300"/>
                </a:solidFill>
                <a:latin typeface="Arial"/>
              </a:rPr>
              <a:t>z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 = 1, 0,-1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like the ground state of ortho-H2 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700360" y="6093000"/>
            <a:ext cx="6192720" cy="459720"/>
          </a:xfrm>
          <a:prstGeom prst="rect">
            <a:avLst/>
          </a:prstGeom>
          <a:solidFill>
            <a:srgbClr val="fa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0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-wave Cooper pair:  </a:t>
            </a: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less favoured  </a:t>
            </a:r>
            <a:r>
              <a:rPr b="1" lang="en-US" sz="2400" spc="-1" strike="noStrike">
                <a:solidFill>
                  <a:srgbClr val="996600"/>
                </a:solidFill>
                <a:latin typeface="Wingdings"/>
                <a:ea typeface="Wingdings"/>
              </a:rPr>
              <a:t>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5280" y="333360"/>
            <a:ext cx="244800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He cond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0920" y="2997360"/>
            <a:ext cx="1944720" cy="165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79280" y="4941720"/>
            <a:ext cx="194472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5280" y="1125360"/>
            <a:ext cx="1584360" cy="15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201840" y="549360"/>
            <a:ext cx="5942160" cy="34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-phase: Balia-Werthamer state (isotropic gap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 |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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 +  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1/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[ |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GB" sz="1800" spc="-1" strike="noStrike">
                <a:solidFill>
                  <a:srgbClr val="ff3300"/>
                </a:solidFill>
                <a:latin typeface="Symbol"/>
                <a:ea typeface="Symbol"/>
              </a:rPr>
              <a:t>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+ |</a:t>
            </a:r>
            <a:r>
              <a:rPr b="1" lang="en-GB" sz="1800" spc="-1" strike="noStrike">
                <a:solidFill>
                  <a:srgbClr val="ff3300"/>
                </a:solidFill>
                <a:latin typeface="Symbol"/>
                <a:ea typeface="Symbol"/>
              </a:rPr>
              <a:t>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]  +  |</a:t>
            </a:r>
            <a:r>
              <a:rPr b="1" lang="en-GB" sz="1800" spc="-1" strike="noStrike">
                <a:solidFill>
                  <a:srgbClr val="ff3300"/>
                </a:solidFill>
                <a:latin typeface="Symbol"/>
                <a:ea typeface="Symbol"/>
              </a:rPr>
              <a:t>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-phase: Anderson-Brinkham-Morel “axial”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|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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+ |</a:t>
            </a:r>
            <a:r>
              <a:rPr b="1" lang="en-GB" sz="1800" spc="-1" strike="noStrike">
                <a:solidFill>
                  <a:srgbClr val="ff3300"/>
                </a:solidFill>
                <a:latin typeface="Symbol"/>
                <a:ea typeface="Symbol"/>
              </a:rPr>
              <a:t>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isotropic gap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[1 – (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fr-FR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fr-FR" sz="20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66200" y="321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881840" y="321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08000" y="2997360"/>
            <a:ext cx="3449520" cy="36003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 flipH="1">
            <a:off x="1258560" y="1125360"/>
            <a:ext cx="1873080" cy="2880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1907640" y="2637000"/>
            <a:ext cx="1295640" cy="1223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4000" y="333360"/>
            <a:ext cx="1944360" cy="703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he superfluid phases of </a:t>
            </a:r>
            <a:r>
              <a:rPr b="0" lang="it-IT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4437000"/>
            <a:ext cx="4103640" cy="17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third phase (A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 is induced by a magnetic field with spin wave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|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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magnetic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uperflui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372360" y="6381720"/>
            <a:ext cx="25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9999"/>
                </a:solidFill>
                <a:latin typeface="Arial"/>
              </a:rPr>
              <a:t>End of lectur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1197000"/>
            <a:ext cx="6912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908: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Heike Kamerlingh Onnes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iquifies He, but attemp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o solidify He are unsucces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553160" y="981000"/>
            <a:ext cx="1471680" cy="1871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9640" y="2205000"/>
            <a:ext cx="63374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926: Kamerlingh’s student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Willem Hendrik Kees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ucceeds in solidifying 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e at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5 a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321300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1938: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Pyotr Leonidovich Kapits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iscovers superfluidity of 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4941720"/>
            <a:ext cx="75614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972: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Douglas D. Osheroff, D. M. Lee &amp; R. C. Richard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bserve superfluidity in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 3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e as an effect of Cooper pai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3860640"/>
            <a:ext cx="6264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969: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Andreev &amp; Lifshitz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redict a superfluidity in solid 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supersoli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6021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001: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C. Cohen-Tannoudji </a:t>
            </a:r>
            <a:r>
              <a:rPr b="0" i="1" lang="it-IT" sz="1800" spc="-1" strike="noStrike">
                <a:solidFill>
                  <a:srgbClr val="333399"/>
                </a:solidFill>
                <a:latin typeface="Arial"/>
              </a:rPr>
              <a:t>et al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btain Bose-Einstein condensation in 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e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11280" y="333360"/>
            <a:ext cx="331308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Helium gets conden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596360" y="3213000"/>
            <a:ext cx="14032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843280" y="333360"/>
            <a:ext cx="36720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e: nuclear stru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2780640"/>
            <a:ext cx="82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Wingdings 2"/>
                <a:ea typeface="Wingdings 2"/>
              </a:rPr>
              <a:t>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on can be produced within stars (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iple-alpha 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us making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1052640"/>
            <a:ext cx="849636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3300"/>
                </a:solidFill>
                <a:latin typeface="Wingdings 2"/>
                <a:ea typeface="Wingdings 2"/>
              </a:rPr>
              <a:t>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Big Bang nucleosynthesis predicts an abundance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23% of </a:t>
            </a:r>
            <a:r>
              <a:rPr b="1" lang="en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He (by ma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This is due 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(a)  helium-4 is very stable and most neutrons  combine with protons to form </a:t>
            </a:r>
            <a:r>
              <a:rPr b="1" lang="en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H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(b)  two </a:t>
            </a:r>
            <a:r>
              <a:rPr b="1" lang="en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He atoms cannot combine to form a stable atom: 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 is unst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4005360"/>
            <a:ext cx="4321080" cy="2592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148360" y="4076640"/>
            <a:ext cx="353196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124000" y="260280"/>
            <a:ext cx="453564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elium: a protected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717480"/>
            <a:ext cx="8785440" cy="28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Webdings"/>
                <a:ea typeface="Webdings"/>
              </a:rPr>
              <a:t>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arly all helium on Earth from radioactive decay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~0.0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4 m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km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year): most helium comes from natural gas. Concentr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in </a:t>
            </a:r>
            <a:r>
              <a:rPr b="0" lang="en-GB" sz="2000" spc="-1" strike="noStrike">
                <a:solidFill>
                  <a:srgbClr val="996600"/>
                </a:solidFill>
                <a:latin typeface="Arial"/>
              </a:rPr>
              <a:t>rock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·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9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seawat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·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in 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atmosphe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·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5013360"/>
            <a:ext cx="87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Webdings"/>
                <a:ea typeface="Webdings"/>
              </a:rPr>
              <a:t>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1958 John Bardeen and other influential scientists warned the Congress that all our helium would be gone by 1980. Congress reacted by spending $1 billion on a separation plant in Amarillo, Texas, and began stockpiling helium in empty gas w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350028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Webdings"/>
                <a:ea typeface="Webdings"/>
              </a:rPr>
              <a:t>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helium in the Earth's atmosphere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scapes into sp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ue to its inertness and low mass. In a part of the upper atmosphere, He and other lighter gases are the most abundant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79280" y="260280"/>
            <a:ext cx="49690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ks to the conservation measures, helium supplies were not exhausted by 1980. Still worldwide consumption of helium has increased by 5 to 10 % a year in the past decade. Presently it is about 100 million cubic metres, and is predicted to rise by 4 to 5 % a ye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2851560"/>
            <a:ext cx="518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Webdings"/>
                <a:ea typeface="Webdings"/>
              </a:rPr>
              <a:t>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one is claiming that we are in imminent danger of running out of helium--there should be at least 20 years supply left. However, new sources of the gas will have to be found to meet the ever-growing deman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651640" y="907920"/>
            <a:ext cx="3028680" cy="4564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79280" y="515772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Webdings"/>
                <a:ea typeface="Webdings"/>
              </a:rPr>
              <a:t>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not, God forbid, we may have to celebrate helium's 200th birthday in the year 2095--without any Mickey Mouse ballo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4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4000" y="189000"/>
            <a:ext cx="273528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e vs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403280" y="1700280"/>
          <a:ext cx="6257880" cy="2414520"/>
        </p:xfrm>
        <a:graphic>
          <a:graphicData uri="http://schemas.openxmlformats.org/drawingml/2006/table">
            <a:tbl>
              <a:tblPr/>
              <a:tblGrid>
                <a:gridCol w="2086200"/>
                <a:gridCol w="1412640"/>
                <a:gridCol w="275904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Nucle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Sp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Magnetic moment [μ</a:t>
                      </a:r>
                      <a:r>
                        <a:rPr b="1" lang="en-GB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N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proton 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/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.792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neutron 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/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913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deuterium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857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baseline="30000">
                          <a:solidFill>
                            <a:srgbClr val="ff3300"/>
                          </a:solidFill>
                          <a:latin typeface="Arial"/>
                          <a:ea typeface="바탕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바탕"/>
                        </a:rPr>
                        <a:t>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바탕"/>
                        </a:rPr>
                        <a:t>1/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바탕"/>
                        </a:rPr>
                        <a:t>-2.12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바탕"/>
                        </a:rPr>
                        <a:t> </a:t>
                      </a:r>
                      <a:r>
                        <a:rPr b="1" lang="en-US" sz="1600" spc="-1" strike="noStrike" baseline="30000">
                          <a:solidFill>
                            <a:srgbClr val="ff3300"/>
                          </a:solidFill>
                          <a:latin typeface="Arial"/>
                          <a:ea typeface="바탕"/>
                        </a:rPr>
                        <a:t>4</a:t>
                      </a: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바탕"/>
                        </a:rPr>
                        <a:t>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556000" y="4437000"/>
                <a:ext cx="316836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  <m:r>
                          <m:t xml:space="preserve">ℏ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078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2556000" y="573408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uclear magnetic reso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9280" y="522936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yperfine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87640" y="623736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in-echo spectros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95640" y="98100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:   0.000137%          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:    99.99986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317080" y="1773360"/>
            <a:ext cx="215640" cy="2174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88360" y="2781360"/>
            <a:ext cx="216000" cy="2174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17080" y="2276640"/>
            <a:ext cx="215640" cy="21744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44000" y="2852640"/>
            <a:ext cx="215640" cy="21744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17080" y="3429000"/>
            <a:ext cx="215640" cy="2174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8360" y="3284640"/>
            <a:ext cx="216000" cy="21744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44000" y="3284640"/>
            <a:ext cx="215640" cy="2174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8360" y="3789360"/>
            <a:ext cx="216000" cy="2174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244000" y="3789360"/>
            <a:ext cx="215640" cy="21744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44000" y="3933720"/>
            <a:ext cx="215640" cy="2174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8360" y="3933720"/>
            <a:ext cx="216000" cy="21744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276720" y="692280"/>
            <a:ext cx="5654520" cy="5949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24000" y="260280"/>
            <a:ext cx="2233440" cy="971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e: electron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tructure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6084720" y="1196640"/>
            <a:ext cx="1295640" cy="1079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84720" y="2349360"/>
            <a:ext cx="1295640" cy="1295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7812000" y="1197000"/>
            <a:ext cx="792360" cy="24480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348000" y="984240"/>
            <a:ext cx="5796000" cy="5587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0920" y="189000"/>
            <a:ext cx="4897440" cy="53280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e: electronic structur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516640"/>
            <a:ext cx="2808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omic radius:   0.3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dW radius:      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1.40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20000" y="2205000"/>
            <a:ext cx="1224000" cy="398880"/>
          </a:xfrm>
          <a:prstGeom prst="rect">
            <a:avLst/>
          </a:prstGeom>
          <a:solidFill>
            <a:srgbClr val="fa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e*(2</a:t>
            </a:r>
            <a:r>
              <a:rPr b="1" lang="it-IT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730560" y="2347920"/>
            <a:ext cx="2890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4076640"/>
            <a:ext cx="28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fractive index of liquid He:      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1.026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(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19:17:54Z</dcterms:created>
  <dc:creator>Giorgio Benedek</dc:creator>
  <dc:description/>
  <dc:language>en-US</dc:language>
  <cp:lastModifiedBy>unimib</cp:lastModifiedBy>
  <dcterms:modified xsi:type="dcterms:W3CDTF">2007-03-13T12:46:36Z</dcterms:modified>
  <cp:revision>60</cp:revision>
  <dc:subject/>
  <dc:title>Diapositiva 1</dc:title>
</cp:coreProperties>
</file>