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111-4B82-4869-A16E-05ECD4A0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305-5E33-4688-BBE8-14D69D5F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608-E037-41DB-A399-F4FF2C63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877-4831-4537-B054-CDB734FC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736-B991-42DA-80BA-0F8475B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4A0-58AE-409F-A214-EA94B70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550-FB2D-492C-892B-90F3881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CB1-8609-4477-BA6D-6EC3D838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6E9-A387-4C72-98B4-5AA9AFEC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345-420E-451C-B46E-EB9633C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27E-4104-416F-AE62-C99F0DA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62B-2657-47DE-B5FE-36306AA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6B4-8D64-4462-A72C-439B67333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50836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5157720"/>
            <a:ext cx="3456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y Giorgio Benedek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partimento Scienza dei Mater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versità di Milano-Bico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0720" y="1484280"/>
            <a:ext cx="2664000" cy="3173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9999"/>
                </a:solidFill>
                <a:latin typeface="Arial"/>
              </a:rPr>
              <a:t>He: a super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9999"/>
                </a:solidFill>
                <a:latin typeface="Arial"/>
              </a:rPr>
              <a:t>Superfluid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personic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surface superpr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elium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lying refrig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om fountains to gey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persolid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33360"/>
            <a:ext cx="4464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: an ideal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4360" y="1700280"/>
                <a:ext cx="2374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400536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43280" y="4021200"/>
                <a:ext cx="3240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b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24000" y="1197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n der Waals equation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4360" y="2492280"/>
                <a:ext cx="4413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24000" y="328464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le-Thomson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15772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al conductivity: 151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 / mK  (300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734080"/>
            <a:ext cx="604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usivity in solid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 times that of air; ~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of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3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n water: smaller than for any other 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754200"/>
            <a:ext cx="34560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1052640"/>
            <a:ext cx="889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ium in an electric glow discharge can form unstable compounds and mole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ns lik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Ne, Hg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W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H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D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even H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form otherwise a plasma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4d4d4d"/>
                </a:solidFill>
                <a:latin typeface="Arial"/>
              </a:rPr>
              <a:t>supersonic cluster beam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22936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d4d4d"/>
                </a:solidFill>
                <a:latin typeface="Wingdings 2"/>
                <a:ea typeface="Wingdings 2"/>
              </a:rPr>
              <a:t></a:t>
            </a:r>
            <a:r>
              <a:rPr b="0" lang="it-IT" sz="1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largest wdW cluster!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a giant, &gt; 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 w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33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a noble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421000"/>
            <a:ext cx="84247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ohedral fullerenes (by heating under a high pressure of the gas):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6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@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utral molecules formed are stable up to high tempera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500280"/>
            <a:ext cx="86421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is used, it can be readily observed by helium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MR spectroscop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erenes compounds, nanotubes, supramolecular compounds can be stud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way.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sneaks into everywhere and tells about the electr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(a noblema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472600">
            <a:off x="6011640" y="5157720"/>
            <a:ext cx="2663640" cy="1150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6237360"/>
            <a:ext cx="287640" cy="28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4941720"/>
            <a:ext cx="216000" cy="214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515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99"/>
                </a:solidFill>
                <a:latin typeface="Arial"/>
              </a:rPr>
              <a:t>End of lectur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87280" y="260280"/>
            <a:ext cx="676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eli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only substance which doesn’t freeze at absolute zero and norm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768320"/>
            <a:ext cx="8569440" cy="455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6000" y="1916280"/>
            <a:ext cx="288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rdinary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. Kapitza 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87280" y="4941360"/>
            <a:ext cx="14400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602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e, Osheroff, 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5229360"/>
            <a:ext cx="28872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248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614840" cy="644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00720" y="6381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99"/>
                </a:solidFill>
                <a:latin typeface="Arial"/>
              </a:rPr>
              <a:t>from D. Vollhardt &amp; P 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ölfle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616572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602136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log sca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5761080" cy="494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260280"/>
            <a:ext cx="2519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– line specific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48360" y="595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W. H. Keesom et al (19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45120" y="115920"/>
            <a:ext cx="2962440" cy="439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5040000" cy="35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724280"/>
                <a:ext cx="223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5445000"/>
                <a:ext cx="2087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TΔ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25920" y="4941720"/>
                <a:ext cx="2468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T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03640" y="6093000"/>
                <a:ext cx="33134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564000" y="5013360"/>
            <a:ext cx="143964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64000" y="5300280"/>
            <a:ext cx="143964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546960" cy="529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84360" y="260280"/>
            <a:ext cx="410544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solid vs. liqui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475080" cy="3745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300720" y="1413000"/>
            <a:ext cx="935280" cy="93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3860640"/>
                <a:ext cx="3672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r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Δp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n</m:t>
                                    </m:r>
                                  </m:sub>
                                </m:sSub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24000" y="549360"/>
            <a:ext cx="4103640" cy="174744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e: a quantum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ghting against Heisenberg’s indetermination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333360"/>
            <a:ext cx="3382920" cy="367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48360" y="400500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220500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675280" y="2205000"/>
            <a:ext cx="468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0"/>
            <a:ext cx="0" cy="33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5300640"/>
            <a:ext cx="4535280" cy="140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solid Helium unfavorable condi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attractive forces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are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both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e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3716280"/>
            <a:ext cx="7207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51280" y="3716280"/>
            <a:ext cx="6490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64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8360" y="2781360"/>
                <a:ext cx="1728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Δ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39640" y="5445000"/>
                <a:ext cx="2808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508720" y="45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pressure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968720" cy="61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635280" y="47628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5111640" cy="52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635280" y="242100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2124000" y="242100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2050920" y="566100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2987640" y="450864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2128680" y="4508640"/>
            <a:ext cx="406440" cy="42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56000" y="692280"/>
            <a:ext cx="107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2637000"/>
            <a:ext cx="107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724280"/>
            <a:ext cx="43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189000"/>
            <a:ext cx="33130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ssical (Maxwell-Boltzmann)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98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10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299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5734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92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5734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2205000"/>
            <a:ext cx="33112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um Bose-Einstei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4292640"/>
            <a:ext cx="33112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um Fermi-Dirac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443640" y="1197000"/>
                <a:ext cx="1224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43640" y="3284640"/>
                <a:ext cx="13669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516720" y="5445000"/>
                <a:ext cx="1008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859280" y="3357720"/>
            <a:ext cx="79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516640"/>
            <a:ext cx="79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49480" y="6237360"/>
            <a:ext cx="69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Fermions (</a:t>
            </a:r>
            <a:r>
              <a:rPr b="0" lang="it-IT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He) also fight against Pauli’s esclusion princi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82 E">
                                      <p:cBhvr>
                                        <p:cTn id="5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82 E">
                                      <p:cBhvr>
                                        <p:cTn id="50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2 E">
                                      <p:cBhvr>
                                        <p:cTn id="55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2 E">
                                      <p:cBhvr>
                                        <p:cTn id="55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2.48555E-006 L 0.00087 0.1785 E">
                                      <p:cBhvr>
                                        <p:cTn id="60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13873E-006 C 0.00695 0.01433 0.00695 0.11213 1.66667E-006 0.12901 C -0.00694 0.14589 -0.03437 0.11583 -0.04132 0.1015 C -0.04826 0.08716 -0.04843 0.05896 -0.04132 0.04231 C -0.0342 0.02566 -0.00694 -0.01434 1.66667E-006 2.13873E-006 Z">
                                      <p:cBhvr>
                                        <p:cTn id="61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2279520" cy="3168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26920" y="260280"/>
            <a:ext cx="756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Keesom and van den Ende (1930) observed quite accidentally that liquid helium II passed with very annoying ease through certain extremely small leaks which at a higher temperature were perfectly tight for liquid helium I and even for gaseous helium.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5445000"/>
            <a:ext cx="75614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his observation seemes to indicate an enormous drop of viscosity when liquid helium passes th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poin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Fritz London, Superfluids, Vol. II (John Wiley &amp; Sons, New York 195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448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upersurf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. Kamerlingh Onnes (1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139032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451640" y="2565360"/>
            <a:ext cx="169236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04640"/>
            <a:ext cx="5977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lium: a brief biography of a super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25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268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18 Aug 1868 solar eclipse 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ierre Janss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587.49 nm: 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060640"/>
            <a:ext cx="720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 Oct 186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orman Locky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ame line (D3) in solar spectru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osal with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dward Frankl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a new atom: Heli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13000"/>
            <a:ext cx="7127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6 Mar 1895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Ramsa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oks for Ar in rocks but fi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mething else; Lockyer and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Crook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firm: Heli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F. Hillebr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US) found it earlier but…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653000"/>
            <a:ext cx="691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ter in 1895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eodor Cle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braham Langl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Uppsa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termine the atomic weight of He with great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05360"/>
            <a:ext cx="8496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907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rnest Rutherfor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homas Royd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e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r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e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740720" y="4724280"/>
            <a:ext cx="1200240" cy="155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67640" y="630864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Sir Ernest Rutherf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67640" y="476280"/>
            <a:ext cx="1254240" cy="187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92720" y="476280"/>
            <a:ext cx="3552840" cy="583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333360"/>
            <a:ext cx="43927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Helium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2060640"/>
            <a:ext cx="3887640" cy="2928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t any rate the fountain effect experiments show that, in liquid helium, heat transfer and matter transfer are inseparably interconnect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. London, ib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308720" y="1197000"/>
            <a:ext cx="781200" cy="54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8100720" y="3645000"/>
            <a:ext cx="576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4633920" y="4076640"/>
            <a:ext cx="9267840" cy="1381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9267840" cy="138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-6877080" y="1268280"/>
            <a:ext cx="9286920" cy="13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9286920" cy="1390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-8748720" y="1773360"/>
            <a:ext cx="929628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611280" y="1773360"/>
            <a:ext cx="9296280" cy="399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03280" y="333360"/>
            <a:ext cx="6696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wo-fluid model of the superfluid state (L. Tis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299736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 normal (viscous) component with atoms having different excited-state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 superfluid component with all atoms having the same ground state velocity (BEC 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no dissipation 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zero viscosi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941 0 E">
                                      <p:cBhvr>
                                        <p:cTn id="664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941 0 E">
                                      <p:cBhvr>
                                        <p:cTn id="666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5 0 E">
                                      <p:cBhvr>
                                        <p:cTn id="668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5 0 E">
                                      <p:cBhvr>
                                        <p:cTn id="670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42 0 E">
                                      <p:cBhvr>
                                        <p:cTn id="690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42 0 E">
                                      <p:cBhvr>
                                        <p:cTn id="692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84360" y="1197000"/>
                <a:ext cx="2374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dε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067280" y="1268280"/>
                <a:ext cx="2520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V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m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4360" y="2349360"/>
                <a:ext cx="4547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4360" y="3141720"/>
                <a:ext cx="5910120" cy="30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dε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ℓ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ε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ℓ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042920" y="333360"/>
            <a:ext cx="74898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mple ideas about Bose–Einstein condensation (B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148360" y="5229360"/>
                <a:ext cx="3109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ℓ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ℓ</m:t>
                                    </m:r>
                                  </m:e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s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man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443640" y="2421000"/>
            <a:ext cx="1441440" cy="1439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3213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314172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3429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3645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299736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314172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2924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88000" y="2492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80360" y="285264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263700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263700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5640" y="3429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1280" y="3645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2924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24720" y="357336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3357720"/>
            <a:ext cx="716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40720" y="3645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88000" y="2997360"/>
            <a:ext cx="716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270828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645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67640" y="3429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256536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78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6360" y="364500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12000" y="422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2492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1413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density of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197000"/>
            <a:ext cx="2736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1197000"/>
            <a:ext cx="48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2276640"/>
            <a:ext cx="49672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141720"/>
            <a:ext cx="4535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4149720"/>
            <a:ext cx="590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5300640"/>
            <a:ext cx="684036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843280" y="2924280"/>
                <a:ext cx="388764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ℓ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ℓ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ℓ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8360" y="549360"/>
                <a:ext cx="532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dε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r>
                      <m:t xml:space="preserve">V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k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68360" y="1700280"/>
                <a:ext cx="518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03320" y="5157720"/>
                <a:ext cx="47624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659640" y="76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8472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verage energy per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tom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7640" y="5229360"/>
            <a:ext cx="251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ondensation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groun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1628640"/>
            <a:ext cx="856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852640"/>
            <a:ext cx="7416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15772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5013360"/>
            <a:ext cx="3816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11280" y="4724280"/>
                <a:ext cx="577188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C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ζ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kT</m:t>
                                </m:r>
                              </m:e>
                            </m:rad>
                          </m:den>
                        </m:f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3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11280" y="1236600"/>
                <a:ext cx="52560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8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11280" y="2349360"/>
                <a:ext cx="4924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assic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11280" y="3429000"/>
                <a:ext cx="4894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C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ζ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≃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258920" y="404640"/>
            <a:ext cx="60498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EC critical temperature &amp;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97000" cy="2822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68360" y="2276640"/>
            <a:ext cx="52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3429000"/>
            <a:ext cx="525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4581360"/>
            <a:ext cx="60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5950080"/>
            <a:ext cx="201600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0" y="602136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e Broglie wavelength  </a:t>
            </a:r>
            <a:r>
              <a:rPr b="0" lang="it-IT" sz="1800" spc="-1" strike="noStrike">
                <a:solidFill>
                  <a:srgbClr val="ff33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2 x interatomic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47640" y="476280"/>
            <a:ext cx="6264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icromé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, bien meilleur observateur que son nain, vit clairement que les atomes se parlaien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(Voltaire, </a:t>
            </a:r>
            <a:r>
              <a:rPr b="0" i="1" lang="it-IT" sz="1800" spc="-1" strike="noStrike">
                <a:solidFill>
                  <a:srgbClr val="000099"/>
                </a:solidFill>
                <a:latin typeface="Times New Roman"/>
              </a:rPr>
              <a:t>Micromégas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6048720" cy="1149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76360" y="4724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oms “talk” each other if their average mean distance is smaller than their de Broglie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76360" y="57340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t the boson attitudes are totally different from fermion attitu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42100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de Brog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3640" y="306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20328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041560" cy="6193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924360" y="333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ve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ing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d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riplet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00720" y="549000"/>
            <a:ext cx="504720" cy="215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836640"/>
            <a:ext cx="504720" cy="2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1484280"/>
            <a:ext cx="6192720" cy="52056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0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-wave Cooper pair: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unfavour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2276640"/>
            <a:ext cx="6192720" cy="374904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wave Cooper pair: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favoured </a:t>
            </a:r>
            <a:r>
              <a:rPr b="1" lang="en-GB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0  (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 (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  (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spin-orbit interaction i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K range and can be negle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-fold ~ degeneracy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ixing of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i="1" lang="en-GB" sz="2000" spc="-1" strike="noStrike" baseline="-25000">
                <a:solidFill>
                  <a:srgbClr val="ff33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= 1, 0,-1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ke the ground state of ortho-H2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00360" y="6093000"/>
            <a:ext cx="6192720" cy="45972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wave Cooper pair: 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less favoured  </a:t>
            </a:r>
            <a:r>
              <a:rPr b="1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33360"/>
            <a:ext cx="2448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c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2997360"/>
            <a:ext cx="19447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4941720"/>
            <a:ext cx="194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125360"/>
            <a:ext cx="1584360" cy="15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01840" y="549360"/>
            <a:ext cx="594216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-phase: Balia-Werthamer state (isotropic ga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+ 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1/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+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]  + 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-phase: Anderson-Brinkham-Morel “axial”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+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sotropic ga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[1 –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620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8184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3449520" cy="3600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H="1">
            <a:off x="1258560" y="1125360"/>
            <a:ext cx="1873080" cy="2880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907640" y="2637000"/>
            <a:ext cx="1295640" cy="122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333360"/>
            <a:ext cx="194436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 superfluid phases of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4437000"/>
            <a:ext cx="410364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third phase (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is induced by a magnetic field with spin wave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agneti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perflu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6381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99"/>
                </a:solidFill>
                <a:latin typeface="Arial"/>
              </a:rPr>
              <a:t>End of lectur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197000"/>
            <a:ext cx="691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0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Heike Kamerlingh Onne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quifies He, but attem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 solidify He are unsucce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3160" y="981000"/>
            <a:ext cx="1471680" cy="187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2205000"/>
            <a:ext cx="633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26: Kamerlingh’s student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em Hendrik Kees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cceeds in solidifying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at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21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193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yotr Leonidovich Kapit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scovers superfluidity of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941720"/>
            <a:ext cx="756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72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Douglas D. Osheroff, D. M. Lee &amp; R. C. 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serve superfluidity i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as an effect of Cooper pa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860640"/>
            <a:ext cx="62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69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ndreev &amp; Lifshitz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edict a superfluidity in solid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upersol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01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. Cohen-Tannoudji </a:t>
            </a: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et al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tain Bose-Einstein condensation in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33360"/>
            <a:ext cx="3313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lium gets conden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140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43280" y="333360"/>
            <a:ext cx="3672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nuclear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78064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n be produced within stars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ple-alpha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us making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052640"/>
            <a:ext cx="849636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Big Bang nucleosynthesis predicts an abundanc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3% of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 (by 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his is du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a)  helium-4 is very stable and most neutrons  combine with protons to form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b)  two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 atoms cannot combine to form a stable atom: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is uns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4321080" cy="25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35319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24000" y="260280"/>
            <a:ext cx="4535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lium: a protect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17480"/>
            <a:ext cx="878544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arly all helium on Earth from radioactive decay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0.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4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k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year): most helium comes from natural gas. Concent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 </a:t>
            </a:r>
            <a:r>
              <a:rPr b="0" lang="en-GB" sz="2000" spc="-1" strike="noStrike">
                <a:solidFill>
                  <a:srgbClr val="9966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awa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013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8 John Bardeen and other influential scientists warned the Congress that all our helium would be gone by 1980. Congress reacted by spending $1 billion on a separation plant in Amarillo, Texas, and began stockpiling helium in empty gas w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50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helium in the Earth's atmosphe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capes into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its inertness and low mass. In a part of the upper atmosphere, He and other lighter gases are the most abundant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60280"/>
            <a:ext cx="4969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the conservation measures, helium supplies were not exhausted by 1980. Still worldwide consumption of helium has increased by 5 to 10 % a year in the past decade. Presently it is about 100 million cubic metres, and is predicted to rise by 4 to 5 %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285156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is claiming that we are in imminent danger of running out of helium--there should be at least 20 years supply left. However, new sources of the gas will have to be found to meet the ever-growing dem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028680" cy="456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ot, God forbid, we may have to celebrate helium's 200th birthday in the year 2095--without any Mickey Mouse ball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89000"/>
            <a:ext cx="27352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v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00280"/>
          <a:ext cx="6257880" cy="2414520"/>
        </p:xfrm>
        <a:graphic>
          <a:graphicData uri="http://schemas.openxmlformats.org/drawingml/2006/table">
            <a:tbl>
              <a:tblPr/>
              <a:tblGrid>
                <a:gridCol w="2086200"/>
                <a:gridCol w="1412640"/>
                <a:gridCol w="27590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gnetic moment [μ</a:t>
                      </a:r>
                      <a:r>
                        <a:rPr b="1" lang="en-GB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roton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79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utron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91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uterium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85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-2.1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56000" y="4437000"/>
                <a:ext cx="3168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7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56000" y="57340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clear magnetic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yperfin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7640" y="6237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in-echo spectros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981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:   0.000137% 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:    99.9998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17080" y="177336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8360" y="2781360"/>
            <a:ext cx="21600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17080" y="227664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44000" y="285264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342900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8360" y="3284640"/>
            <a:ext cx="21600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328464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8360" y="3789360"/>
            <a:ext cx="21600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44000" y="378936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44000" y="393372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3933720"/>
            <a:ext cx="21600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5654520" cy="594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260280"/>
            <a:ext cx="2233440" cy="971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elec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ru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84720" y="1196640"/>
            <a:ext cx="1295640" cy="10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1295640" cy="1295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812000" y="1197000"/>
            <a:ext cx="792360" cy="2448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48000" y="984240"/>
            <a:ext cx="5796000" cy="5587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189000"/>
            <a:ext cx="4897440" cy="5328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electronic stru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516640"/>
            <a:ext cx="280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omic radius:   0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dW radius: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1.4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2205000"/>
            <a:ext cx="1224000" cy="39888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*(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30560" y="2347920"/>
            <a:ext cx="289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07664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fractive index of liquid He:      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1.02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17:54Z</dcterms:created>
  <dc:creator>Giorgio Benedek</dc:creator>
  <dc:description/>
  <dc:language>en-US</dc:language>
  <cp:lastModifiedBy>unimib</cp:lastModifiedBy>
  <dcterms:modified xsi:type="dcterms:W3CDTF">2007-03-13T12:46:36Z</dcterms:modified>
  <cp:revision>60</cp:revision>
  <dc:subject/>
  <dc:title>Diapositiva 1</dc:title>
</cp:coreProperties>
</file>